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BA7F-5C35-4C41-9675-8AA2F892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0A5-452F-4AE2-9FD0-38E1E54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D27-C8E9-43B8-849F-2477D054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E49-097C-42AC-9079-2C6DB9C7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5C8-CDE8-4D33-B8D1-9AF0F6B7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9AE-CA18-4A80-8CEA-48C7D8E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B1C9-C141-4037-AA62-359C6F2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013-5D1D-469B-BB9E-A8B1A49C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75D4-2A36-4C31-A0D1-E2BD8DA5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2991-EDB0-4F40-8853-597438AA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F97-981C-4F88-93B4-B6342B28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EE1-60B4-487F-9262-F233965A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D4CC-8B6C-444F-BEE8-49FFD1AD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3E67-E2E5-4022-BA20-DC748DC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646B-199F-4F12-BB58-0E9C6EC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775-F7A0-46EF-B7BC-62BB4A43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CEA9-2562-4E6F-9E4B-8A08FFCB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1C7-112F-4B35-ADE6-8178DA9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18E-80C4-4F2A-93A1-879B5924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698-B2B8-4987-A4CE-3BFB5EA4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7CF-D45F-4137-9CA4-42E6D686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FD8-335C-4C79-8DEE-2A0E45A7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7A8-68A1-4F98-97FD-93F3786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CBF-8445-4CC2-A1F8-2E79A70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EC98-F621-4A78-8E0E-0A5DB0802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338-45FE-4C4C-B6ED-6FEC181A5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waiisenergyfuture.com/Articles/Garbage_To_Energy.html" TargetMode="External"/><Relationship Id="rId3" Type="http://schemas.openxmlformats.org/officeDocument/2006/relationships/hyperlink" Target="http://starbulletin.com/2006/02/16/news/story01.html" TargetMode="External"/><Relationship Id="rId4" Type="http://schemas.openxmlformats.org/officeDocument/2006/relationships/hyperlink" Target="http://www.hawaiisenergyfuture.com/Articles/Garbage_To_Energy.html" TargetMode="External"/><Relationship Id="rId5" Type="http://schemas.openxmlformats.org/officeDocument/2006/relationships/hyperlink" Target="http://starbulletin.com/2006/02/16/news/story01.html" TargetMode="External"/><Relationship Id="rId6" Type="http://schemas.openxmlformats.org/officeDocument/2006/relationships/hyperlink" Target="http://starbulletin.com/2004/11/14/news/story2.html" TargetMode="External"/><Relationship Id="rId7" Type="http://schemas.openxmlformats.org/officeDocument/2006/relationships/hyperlink" Target="http://www.honoluluhpower.com/About.asp" TargetMode="External"/><Relationship Id="rId8" Type="http://schemas.openxmlformats.org/officeDocument/2006/relationships/hyperlink" Target="http://www.honoluluhpower.com/About.asp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startech.net/photoPages/pic6.htm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a.gov/centers/goddard/news/topstory/2003/0508landfill.html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onverting Garbage Into Usabl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4343400"/>
            <a:ext cx="701028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amantha Lee, Chris Han, &amp; Michelle J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ile of Garbage to Pile of Cash?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ci-Tech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3 July 2005.  CBS News.  20 March 2007.  http://www.cbsnews.com/stories/2005/07/13/tech/main708741.s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ham-Rowe, Duncan.  “Making the Best of Garbage Gas.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he World’s No.1 Science and Technology New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March 2005.  20 March 2007.  http://www.newscientist.com/article.ns?id=dn70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n, Daniela.  “Converting Trash Gas into Energy Gold.” 5 March 2006. CNN. 20 March 2007. http://www.cnn.com/2006/TECH/05/05/landfill.gas/index.html?section=cnn_la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SA Warms Up to Maryland’s Trash.”  8 May 2003.  NASA. 20 March 2007.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www.nasa.gov/centers/goddard/news/topstory/2003/0508landf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http://www.popsci.com/popsci/science/873aae7bf86c0110vgnvcm1000004eecbccdrc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http://www.hawaiisenergyfuture.com/Articles/Garbage_To_Energ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starbulletin.com/2006/02/16/news/story01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waimanalo Gulch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fill cl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http://starbulletin.com/2004/11/14/news/story2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Debate for new landfill 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www.honoluluhpower.com/About.as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Incinerator 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envhonolulu.org/solid_waste/archive/How_our_City_manages_our_waste.html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 where our trash go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71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Currently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4497120"/>
            <a:ext cx="8613720" cy="2360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ollect approximately 1.76 million tons of trash each year from the island of Oa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two landfills on the island – Nanakuli &amp; Waimanalo Gul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rash is recycled in som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5181840" cy="3213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H-Power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/when/why: A program devised since the 1987 to help Oahu reduce its trash and dependency on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/how? Reduces the volume of trash by 90% &amp; produces 7% of the islands electricity through combustion in water-cooled furnaces at over 18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83120" y="1933560"/>
            <a:ext cx="3524400" cy="161928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048120" cy="193032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The Issu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manalo Gulch is closing on Ma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different interests &amp; idea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erra club (Recycling curb bill)/Ko Olina resort (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 off island / Increase H-power / Choose a new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art"/>
          <p:cNvPicPr/>
          <p:nvPr/>
        </p:nvPicPr>
        <p:blipFill>
          <a:blip r:embed="rId2"/>
          <a:stretch/>
        </p:blipFill>
        <p:spPr>
          <a:xfrm>
            <a:off x="685800" y="1295280"/>
            <a:ext cx="3728880" cy="533412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4226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: Joseph Lo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stol, Connecti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a gasification-30,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plasma disintegrates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obsidian-like glass and “syng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s of energy: usable fuel and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343400" cy="2892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886200" y="5073480"/>
            <a:ext cx="541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http://www.popsci.com/popsci/science/873aae7bf86c0110vgnvcm1000004eecbccdrcrd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Facts About 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809880"/>
            <a:ext cx="8541000" cy="3276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: $25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,000 tons of waste da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1,000,000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sell “syngas” and surplu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ore tipping fee for landfill ($35 per t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moke, ash, or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657600" cy="243828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2743200" cy="20574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352680" cy="22352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238880" y="4495680"/>
            <a:ext cx="1487520" cy="19814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057400" cy="15429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33520" y="1828800"/>
            <a:ext cx="4724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mericans produce about 4.5 pounds of garbage per person each da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% of America’s waste is put into landfi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 landfills contribute a third of all methane emissions worldw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20 times stronger than carbon dioxide as a greenhouse 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 of 2005, 396 landfills collected methane gas for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fill gas is about 50% metha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5320" y="1980720"/>
            <a:ext cx="404028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made when garbage decomposes without oxy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tracted by the pipes or wells in the landfi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oes to a purification plant to filter out small particles and water (water-less gas is easier to transport and bu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purification gas is sent to wherever it is us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s is burned to make steam to turn turbines, making electric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139760" cy="1752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361960" cy="1539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3533760" cy="1995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438280" y="3352680"/>
            <a:ext cx="1600200" cy="10540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3" name="" descr="story.converter.jpg"/>
          <p:cNvPicPr/>
          <p:nvPr/>
        </p:nvPicPr>
        <p:blipFill>
          <a:blip r:embed="rId6"/>
          <a:stretch/>
        </p:blipFill>
        <p:spPr>
          <a:xfrm>
            <a:off x="1981080" y="1523880"/>
            <a:ext cx="2095560" cy="16002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Advantages &amp; Disadvantag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992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al is still cheap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uilding pipelines to carry methane is expens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king away the gas controls odor problems for resid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ing methane reduces greenhouse gas, helps the ozone (examples: NASA, Interface Flooring, Waverl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Photo of Landfill Gas Processing Plant, Sandy Hill Landfill in Bowie, M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905120"/>
            <a:ext cx="3305160" cy="2266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600200" y="5105520"/>
            <a:ext cx="143820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48320" y="4495680"/>
            <a:ext cx="3429000" cy="1868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nahou School</cp:lastModifiedBy>
  <dcterms:modified xsi:type="dcterms:W3CDTF">2007-04-09T23:14:00Z</dcterms:modified>
  <cp:revision>38</cp:revision>
  <dc:subject/>
  <dc:title>Currently…</dc:title>
</cp:coreProperties>
</file>